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C41F2-94A9-4DB2-BBDE-6031F6CD0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7F13F-B3C6-42D0-9697-FBCDA3C63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8FA63-6AC1-47D2-9B0F-620946B27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1991D-4D44-43A1-85C1-C6AC6987F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0DEF1-B861-4BB7-8F51-A343F93B9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9318A-39D6-4982-B546-6E897F04D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4AD65-06BC-4B5C-AE0F-1555F4B7B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9DD9B-3C47-498D-9E01-31EECAC12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00A63-DCD9-4094-995B-B3C324CC2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C9324-42D2-4A1A-847D-86D1CC631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B4F77-9687-4940-9B43-9EEBE8484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BA622-491D-480E-AF15-07693022B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1B6F0-6473-43EC-8786-FB546FF34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AE796-B930-48DA-B5FE-9BBEF20E1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DC635-4073-4369-A4E3-F900F976E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2EC8E-52FA-4CC3-8D1A-3267A1C55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C3F4E-B967-475F-A0F5-0EE2990E7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41DB9-73B5-417B-BC28-83968525C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52031-60C0-46D3-AAAA-AF7554BB2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FE5ED-6857-40DB-B4AA-8F5985AFE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F40D6-D5BC-4E9A-AEE9-7B985C611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E1982-C5A7-4913-BC12-AC370D32D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26D64-5F30-4DEB-911E-164365841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A7AB9-A14D-44CF-88DD-A19593D52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L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92AAD-8E01-43FD-A2BC-0971D7D669F4}" type="slidenum">
              <a:rPr b="0" lang="ar-L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L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D55C7-EEE6-4F3E-8C11-102F8FB8CE8D}" type="slidenum">
              <a:rPr b="0" lang="ar-L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495288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800" spc="-1" strike="noStrike" u="sng">
                <a:solidFill>
                  <a:srgbClr val="ffffff"/>
                </a:solidFill>
                <a:uFillTx/>
                <a:latin typeface="Times New Roman"/>
                <a:cs typeface="AF_Diwani"/>
              </a:rPr>
              <a:t>نشيد الدخول:</a:t>
            </a:r>
            <a:br>
              <a:rPr sz="7200"/>
            </a:br>
            <a:r>
              <a:rPr b="0" lang="ar-SA" sz="6000" spc="-1" strike="noStrike">
                <a:solidFill>
                  <a:srgbClr val="ffffff"/>
                </a:solidFill>
                <a:latin typeface="Tahoma"/>
                <a:cs typeface="Tahoma"/>
              </a:rPr>
              <a:t>نحن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ffffff"/>
                </a:solidFill>
                <a:latin typeface="Tahoma"/>
                <a:cs typeface="Tahoma"/>
              </a:rPr>
              <a:t>ساهرون</a:t>
            </a: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260280"/>
            <a:ext cx="8763120" cy="29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cc00"/>
                </a:solidFill>
                <a:latin typeface="Tahoma"/>
                <a:cs typeface="Akhbar MT"/>
              </a:rPr>
              <a:t>نحن ساهرون،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cc00"/>
                </a:solidFill>
                <a:latin typeface="Tahoma"/>
                <a:cs typeface="Akhbar MT"/>
              </a:rPr>
              <a:t>ومصابيحُنا مشتعلة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4920" y="293760"/>
            <a:ext cx="87472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cc00"/>
                </a:solidFill>
                <a:latin typeface="Times New Roman"/>
                <a:cs typeface="Akhbar MT"/>
              </a:rPr>
              <a:t>ننتظرُ عودتَك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cc00"/>
                </a:solidFill>
                <a:latin typeface="Times New Roman"/>
                <a:cs typeface="Akhbar MT"/>
              </a:rPr>
              <a:t>أيها الربُّ يسوع.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" dur="10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" dur="10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" dur="10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0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" dur="10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2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95280" y="404640"/>
            <a:ext cx="7924680" cy="59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 rtl="1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cc00"/>
                </a:solidFill>
                <a:latin typeface="Tahoma"/>
                <a:cs typeface="Akhbar MT"/>
              </a:rPr>
              <a:t>كما يومضُ البرقُ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cc00"/>
                </a:solidFill>
                <a:latin typeface="Tahoma"/>
                <a:cs typeface="Akhbar MT"/>
              </a:rPr>
              <a:t>فـي أفُقٍ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cc00"/>
                </a:solidFill>
                <a:latin typeface="Tahoma"/>
                <a:cs typeface="Akhbar MT"/>
              </a:rPr>
              <a:t>ويتألّقُ فـي آخر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3886200" y="981000"/>
            <a:ext cx="52578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1700" spc="-1" strike="noStrike">
                <a:solidFill>
                  <a:srgbClr val="ffffff"/>
                </a:solidFill>
                <a:latin typeface="Tahoma"/>
                <a:cs typeface="Akhbar MT"/>
              </a:rPr>
              <a:t>هكذا، مجيءُ</a:t>
            </a:r>
            <a:endParaRPr b="0" lang="en-US" sz="117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1700" spc="-1" strike="noStrike">
                <a:solidFill>
                  <a:srgbClr val="ffffff"/>
                </a:solidFill>
                <a:latin typeface="Tahoma"/>
                <a:cs typeface="Akhbar MT"/>
              </a:rPr>
              <a:t>ربِّنا يكون.</a:t>
            </a:r>
            <a:endParaRPr b="0" lang="en-US" sz="1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260280"/>
            <a:ext cx="8763120" cy="29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cc00"/>
                </a:solidFill>
                <a:latin typeface="Tahoma"/>
                <a:cs typeface="Akhbar MT"/>
              </a:rPr>
              <a:t>نحن ساهرون،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cc00"/>
                </a:solidFill>
                <a:latin typeface="Tahoma"/>
                <a:cs typeface="Akhbar MT"/>
              </a:rPr>
              <a:t>ومصابيحُنا مشتعلة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8000" y="366840"/>
            <a:ext cx="87469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cc00"/>
                </a:solidFill>
                <a:latin typeface="Times New Roman"/>
                <a:cs typeface="Akhbar MT"/>
              </a:rPr>
              <a:t>ننتظرُ عودتَك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cc00"/>
                </a:solidFill>
                <a:latin typeface="Times New Roman"/>
                <a:cs typeface="Akhbar MT"/>
              </a:rPr>
              <a:t>أيها الربُّ يسوع.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horz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4" dur="10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6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4114800" y="1916280"/>
            <a:ext cx="4560840" cy="29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000000"/>
                </a:solidFill>
                <a:latin typeface="Tahoma"/>
                <a:cs typeface="Akhbar MT"/>
              </a:rPr>
              <a:t>لِنفرحنَّ به،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000000"/>
                </a:solidFill>
                <a:latin typeface="Tahoma"/>
                <a:cs typeface="Akhbar MT"/>
              </a:rPr>
              <a:t>كما فرِحَ بنا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000000"/>
                </a:solidFill>
                <a:latin typeface="Tahoma"/>
                <a:cs typeface="Akhbar MT"/>
              </a:rPr>
              <a:t>لأنّه سيُفرحُنا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000000"/>
                </a:solidFill>
                <a:latin typeface="Tahoma"/>
                <a:cs typeface="Akhbar MT"/>
              </a:rPr>
              <a:t>ببهاءِ ضيائِه.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260280"/>
            <a:ext cx="8763120" cy="29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cc00"/>
                </a:solidFill>
                <a:latin typeface="Tahoma"/>
                <a:cs typeface="Akhbar MT"/>
              </a:rPr>
              <a:t>نحن ساهرون،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cc00"/>
                </a:solidFill>
                <a:latin typeface="Tahoma"/>
                <a:cs typeface="Akhbar MT"/>
              </a:rPr>
              <a:t>ومصابيحُنا مشتعلة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4920" y="293760"/>
            <a:ext cx="87472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cc00"/>
                </a:solidFill>
                <a:latin typeface="Times New Roman"/>
                <a:cs typeface="Akhbar MT"/>
              </a:rPr>
              <a:t>ننتظرُ عودتَك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cc00"/>
                </a:solidFill>
                <a:latin typeface="Times New Roman"/>
                <a:cs typeface="Akhbar MT"/>
              </a:rPr>
              <a:t>أيها الربُّ يسوع.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horz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8" dur="10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0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6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0" dur="10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2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8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2" dur="10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4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0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8T20:57:59Z</dcterms:created>
  <dc:creator>Charbel Azar</dc:creator>
  <dc:description/>
  <dc:language>en-US</dc:language>
  <cp:lastModifiedBy>Charbel Azar</cp:lastModifiedBy>
  <dcterms:modified xsi:type="dcterms:W3CDTF">2002-07-15T07:47:34Z</dcterms:modified>
  <cp:revision>4</cp:revision>
  <dc:subject/>
  <dc:title>PowerPoint Presentation</dc:title>
</cp:coreProperties>
</file>